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03B-F46C-4A7B-AA3C-3C2CA453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C7C-E047-4878-A577-BE80B7E1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B69-8F06-46F3-A39F-AEBFF20A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46E-84E5-4AE1-BC22-45B11439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D54-59AE-4A66-BABE-93C0D55E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80B-101E-4867-9A55-5D662630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A72-B3D7-4D22-87EF-18210012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263-2533-4ACD-85A4-A7461CAF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E24-164A-48A0-8816-698CD431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C586-9143-464B-9AE9-EA07194F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332-1F23-4725-9F35-B31CA279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B60-B0AD-48DD-A1B2-A4307464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4B1B-9209-481E-991E-D170D5843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To learn about where people speak Spanis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to find out what Spanish is really call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to revise the colou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to do some brain exercis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to describe the flags of Spanish-speaking countri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to run around the roo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gri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azul clar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230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azul oscur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71640" y="836640"/>
            <a:ext cx="3745080" cy="316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4869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on una estrella ro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2920" y="486900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on rayas horizontales azu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2276640"/>
            <a:ext cx="3960720" cy="0"/>
          </a:xfrm>
          <a:prstGeom prst="line">
            <a:avLst/>
          </a:prstGeom>
          <a:ln w="76320">
            <a:solidFill>
              <a:srgbClr val="230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2492280"/>
            <a:ext cx="3960720" cy="0"/>
          </a:xfrm>
          <a:prstGeom prst="line">
            <a:avLst/>
          </a:prstGeom>
          <a:ln w="76320">
            <a:solidFill>
              <a:srgbClr val="230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2708280"/>
            <a:ext cx="3960720" cy="0"/>
          </a:xfrm>
          <a:prstGeom prst="line">
            <a:avLst/>
          </a:prstGeom>
          <a:ln w="76320">
            <a:solidFill>
              <a:srgbClr val="230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2924280"/>
            <a:ext cx="3960720" cy="0"/>
          </a:xfrm>
          <a:prstGeom prst="line">
            <a:avLst/>
          </a:prstGeom>
          <a:ln w="76320">
            <a:solidFill>
              <a:srgbClr val="230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71640" y="429264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on rayas verticales ver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1052640"/>
            <a:ext cx="0" cy="1798560"/>
          </a:xfrm>
          <a:prstGeom prst="line">
            <a:avLst/>
          </a:prstGeom>
          <a:ln w="76320">
            <a:solidFill>
              <a:srgbClr val="0ce2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1052640"/>
            <a:ext cx="0" cy="1798560"/>
          </a:xfrm>
          <a:prstGeom prst="line">
            <a:avLst/>
          </a:prstGeom>
          <a:ln w="76320">
            <a:solidFill>
              <a:srgbClr val="0ce2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00720" y="1052640"/>
            <a:ext cx="0" cy="1798560"/>
          </a:xfrm>
          <a:prstGeom prst="line">
            <a:avLst/>
          </a:prstGeom>
          <a:ln w="76320">
            <a:solidFill>
              <a:srgbClr val="0ce2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2000" y="1052640"/>
            <a:ext cx="0" cy="1798560"/>
          </a:xfrm>
          <a:prstGeom prst="line">
            <a:avLst/>
          </a:prstGeom>
          <a:ln w="76320">
            <a:solidFill>
              <a:srgbClr val="0ce2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24360" y="1052640"/>
            <a:ext cx="0" cy="1798560"/>
          </a:xfrm>
          <a:prstGeom prst="line">
            <a:avLst/>
          </a:prstGeom>
          <a:ln w="76320">
            <a:solidFill>
              <a:srgbClr val="0ce2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26920" y="620640"/>
            <a:ext cx="13669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4653000"/>
            <a:ext cx="136692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620640"/>
            <a:ext cx="1366920" cy="9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4653000"/>
            <a:ext cx="136692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0000" y="2637000"/>
            <a:ext cx="1366920" cy="93492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2565360"/>
            <a:ext cx="13669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4720" y="4653000"/>
            <a:ext cx="1366920" cy="93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620640"/>
            <a:ext cx="1366920" cy="935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2708280"/>
            <a:ext cx="1366920" cy="93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71640" y="2637000"/>
            <a:ext cx="136692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620640"/>
            <a:ext cx="1366920" cy="93528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170028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z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177336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566100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5640" y="5661000"/>
            <a:ext cx="1584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5661000"/>
            <a:ext cx="15112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1773360"/>
            <a:ext cx="1512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32360" y="177336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3645000"/>
            <a:ext cx="16574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3716280"/>
            <a:ext cx="1440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3716280"/>
            <a:ext cx="15112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364500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260280"/>
            <a:ext cx="8353440" cy="5710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or = colou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labra =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</a:rPr>
              <a:t>azu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lanc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ra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s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660033"/>
                </a:solidFill>
                <a:latin typeface="Arial"/>
              </a:rPr>
              <a:t>marr</a:t>
            </a:r>
            <a:r>
              <a:rPr b="0" lang="en-GB" sz="2800" spc="-1" strike="noStrike">
                <a:solidFill>
                  <a:srgbClr val="660033"/>
                </a:solidFill>
                <a:latin typeface="Arial"/>
                <a:ea typeface="Arial"/>
              </a:rPr>
              <a:t>ó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33cc"/>
                </a:solidFill>
                <a:latin typeface="Arial"/>
              </a:rPr>
              <a:t>gr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76360" y="1341360"/>
            <a:ext cx="13669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3429000"/>
            <a:ext cx="136656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88000" y="765000"/>
            <a:ext cx="1366920" cy="9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4724280"/>
            <a:ext cx="136692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84720" y="2276640"/>
            <a:ext cx="1366920" cy="93492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2997360"/>
            <a:ext cx="13669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7080" y="5157720"/>
            <a:ext cx="1366920" cy="935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404640"/>
            <a:ext cx="1366920" cy="935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84720" y="5373720"/>
            <a:ext cx="1366920" cy="93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3645000"/>
            <a:ext cx="136692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2060640"/>
            <a:ext cx="1366920" cy="93492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197000"/>
            <a:ext cx="8207280" cy="3097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missed the lesson on colours last week, you need to complete the write-down sheet on colours AND THEN the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were here, you just need to copy the vocab from the next side and then describe some flag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95640" y="1557360"/>
            <a:ext cx="51829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Los colores de las bandera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76280"/>
            <a:ext cx="8569080" cy="58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Las bande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fl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 una estrella roj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 red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 rayas horizontales azu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horizontal blue stri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 rayas verticales verd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vertical green stri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 choose a few flags and describe them!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bandera de Colombia 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negr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0ce2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e9fa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amarill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cc32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morad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1:41:09Z</dcterms:created>
  <dc:creator>Chris Fuller</dc:creator>
  <dc:description/>
  <dc:language>en-US</dc:language>
  <cp:lastModifiedBy>Owner1</cp:lastModifiedBy>
  <dcterms:modified xsi:type="dcterms:W3CDTF">2008-10-13T16:39:56Z</dcterms:modified>
  <cp:revision>4</cp:revision>
  <dc:subject/>
  <dc:title>Slide 1</dc:title>
</cp:coreProperties>
</file>